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C4F-2953-4044-A168-F2CA6EAF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E06-9F34-45CA-872E-CF077B3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BA0-0C38-4A7E-9A52-A498CAB7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B8D-FF72-4A0E-B839-1DD606E2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5B6-5E83-4E60-B4FF-6FBC76D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5EE-0C07-4174-A331-240BA436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584-9F18-4F89-86D8-12381880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D71-0C1E-4069-B398-8525AC19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910-91E6-44CC-8F92-500EF8C6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E7A-B3D8-4AC4-8671-E783E41A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EDC-D497-48C5-83D1-AA9B72A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1EE-7E89-4CDE-B801-914D213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B885-7E92-478D-BE88-FB32586E9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9154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6680" y="304920"/>
            <a:ext cx="79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Together to Build a Community of Successful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72400" y="5334120"/>
            <a:ext cx="1143000" cy="113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800" y="5334120"/>
            <a:ext cx="75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ing with optimism, enthusiasm, confidence and decis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king the initiative to make a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9:45:18Z</dcterms:created>
  <dc:creator>ssproul</dc:creator>
  <dc:description/>
  <dc:language>en-US</dc:language>
  <cp:lastModifiedBy>ssproul</cp:lastModifiedBy>
  <dcterms:modified xsi:type="dcterms:W3CDTF">2010-06-06T20:53:41Z</dcterms:modified>
  <cp:revision>2</cp:revision>
  <dc:subject/>
  <dc:title>Slide 1</dc:title>
</cp:coreProperties>
</file>